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F9F-51BE-4A5E-8A99-1CC0CDAE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66F-5198-40BB-A750-D345AC67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8BDB-3B7F-40A2-BAFF-E759CF6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C36EE-01BF-4B6C-A424-EA373DC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35CFE-CFF2-402B-9E6C-B601B1B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9DCD-1694-413C-878C-ABD254C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01FE2-EFC5-4E39-A12A-7F793D35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35989-CB5A-424B-B4DF-A2E2A20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45311-7D60-46DC-BECD-937FC44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1D0DE-438A-4009-BADB-FA149DA6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4F000-2BD6-4EC4-8AA8-09A3D8BB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5E3A3-4F7B-4D39-869F-11FE7170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501-E4D5-4757-A8A8-2E9B2203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FBFFC-F250-4EB7-8BF0-22F0698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0A1E-D72E-4A30-B771-68C9DB3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2C343-0542-46BC-ABF9-64E5F72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02B11-A984-4E7E-B1BF-D7EA0F3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91983-FF73-4252-8323-87002A5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F85C6-3E8C-4D5E-A113-6075A79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177C2-EF1F-4B91-A320-F5F958E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67FFF-9CD1-473B-A2CC-D68CA31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0D4F-F08B-473B-827D-437A95B3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1B9F1-34AB-4CC6-84BC-1EF9FF7A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C17-C2BD-4C97-B3F2-77DCA3ED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883FB-8BB8-4722-8372-9B630301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B7CE9-0635-4D56-9600-A9B77021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F9B76-E684-466A-AF52-AD01CDD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6334F-6935-4BA5-B6B7-016F1E7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5544-D281-48E0-8E96-83B832FA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DE72-E025-442A-8B79-E4ED2D7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E1DCB-CD7C-48A1-89E0-E832875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AF8A2-7A36-4A9C-AA03-B78C935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5B196-02F3-4021-A730-9F8E2B4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8A99-1375-4683-A8B9-D604CAE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243-84B9-4D8C-A847-C4CB869C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50852-50D7-4ACC-9998-8CA3310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159F2-6546-4B92-9CB2-86F72B82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71BEE-39E6-4F6E-BB1A-B991816A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F1DE4-1C20-40E5-891C-086EA937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89EF3-6DA1-4234-9942-8AE32A9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C6293-B2C3-4BEE-A87D-1D5A8A19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0F319-7776-437A-A9FD-E64C956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44D8D-61B7-4503-B349-DAA073A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F68B6-F7FB-4EB4-8390-144D1413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7681-6B29-455C-9633-8CD2912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3A1-9016-420E-8693-A0EE8E9C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BC7B-452B-40F4-A74E-8C4E3F4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D5E93-D6BD-4F68-AE0C-140095E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0997E-ED83-4E5A-9BF4-9CEADAA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A8DE8-C608-472B-92AE-6860594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0CB1E-6401-476E-8DF9-48631691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0BDCD-2851-42CC-A1DF-EDD1C14F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2465D-1E25-44A1-84BC-A01E0A9E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CB646-FBF6-478E-874E-1A2C61AD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4881F-4322-4DA4-BDF7-45C78482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F423C-C295-4DF9-8FB1-355DB39F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52AB-0591-4C07-B211-695D327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27FB6-0B49-4B3C-B7A2-FF24B17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6BA88-7F94-4B1F-B68F-2B35389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CDB4D-2093-4219-8E84-63847E9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86954-A4FC-42CD-821C-A746622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1C7F2-3796-4B38-BD4E-9E18C35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34751-7513-4D2E-BE55-FE99A0A9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D6C85-7DFA-4952-B9B7-DF250AE4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B35C3-C030-4EC8-B487-26D71CE7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1110E-B094-429C-B906-BC2D2893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E773E-5D14-4E80-852B-5A63CD2D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84A1-9AB9-495F-8715-2C1E648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0ECFE-021B-4996-977D-02B6837A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ECABE-C58C-412D-ADFC-767A0F2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176DC-B857-4647-9137-BF663B62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1B77F-01D7-445B-847C-5786D76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67883-36E0-488A-8F68-8DE7048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A72CB-CB63-4052-A7C9-46E991C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FC524-B83F-4297-B326-6FAF9DB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FC6FC-F161-4C5E-9400-A67FD1F8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56627-E4C3-48C5-9338-EAEEFB6C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81784-D3B1-4699-A28C-C863C27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6962-C992-494C-9ABA-39C3F8A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955A8-5CAA-4B44-A742-31DE9FCC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436CC-FF4B-45FF-B3EA-3084587B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D8FC3-706B-4DD1-AB36-6B7C70E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F8603-445A-4594-AFB0-84EF726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BFD52-8A1E-4779-BBB3-FC155EC5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ED675-8502-437C-B2F0-2B5D1B1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08121-47FB-4642-8E37-D7C61A2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DE4BD-03B4-4C48-BB60-1FA0410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520FD-8A32-49A4-A19C-C4BA674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D7AC8-C6CC-470A-9C5C-72EF1D3D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417-BE82-4799-8BB8-9D26FCD7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BF7BD-D3EB-4012-B245-FA3E408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9E0FE-C8C5-4707-8E98-152E8DEA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3FE77-602A-4F76-B680-8B6B95C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F20E0-8758-473B-9BCB-DFE76CC0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BA0A5-BC03-41AD-B4E9-FCEFB969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89E01-11DE-447F-BF7D-DF575F1A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6EE8B-B0E8-479C-BB1C-978DB23F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ECD5E-9A62-41CD-BCAA-5E68A51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C24F2-433D-4E0F-BAB4-14D7FE0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85E5B-6903-42CD-AF01-5B9C28B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954-BA8F-4005-B005-A32A8C6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953BE-D30F-448F-AD9B-48BB280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25DEE-3CCD-4ABB-8624-50950428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1ADD6-4FB4-4168-BBC7-363E40D2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9DAAD-3946-4E5A-AFC2-5A290CD1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1A2F5-804B-46FE-A1EE-D453909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72F04-F729-45F0-B72B-11CC79B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299DC-72DA-46FB-955D-5A02089A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6D81A-9D9A-42FA-A8D0-307773B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29051-C43A-49C1-8112-F8C87987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8BCC4-4AD9-4580-B66A-C44D3A4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579-2DED-4DBD-8ABB-8ADD61F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CE6-856B-4CC0-A810-04D4D15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E4BC8-32E9-4FD8-A6EA-F87ED668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38023-9A33-4CBA-B15D-C4738A7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FE036-F092-4FC3-8C47-4712C1A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33A3C-77AA-435F-A888-EC7A4042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6792B-4849-4D89-9D13-1CD19B4B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FEEE8-3A93-4A89-8A00-51A1ABC5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CFD00-E081-48DA-B8F9-C5F52C2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F5435-2E53-4118-B2C6-917C3C99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8BA10-9460-4E5A-8949-A85C6F3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32F3F-4A4E-425F-98AF-19BA352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4C44-05EB-475C-AD98-AF6D54A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DFF20-3949-4B9C-B2A6-7303334D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10D7C-71B6-41FE-8DB5-EFFCDCA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847BD-6715-43F3-AEEC-95E776D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ABC48-7A0F-400C-828D-B896AFF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368DF-8A9D-4377-9B20-6B0BDAB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FE56B-3C7D-4331-B71E-DAC6D66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D3DCB-E74E-414C-B43A-4DA8EC31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BA089-25C2-4FA5-9EC8-0C2E5AC9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CA789-1490-4D50-B033-AA65E69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F0E29-8489-4104-8BB9-50E8720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3766-9661-47AA-9840-93233D76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F3C63-9604-4302-93D7-E0ECEA6A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57044-FE54-4812-99E4-CB6C051F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5B626-29A2-4C3F-B6AC-9670A687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9E19F-5608-4EC2-A41E-339E375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17C3F-F450-46A4-BD9F-652C553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B4346-5DE8-4712-B281-EEA9F9C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09981-D2DC-45F8-A077-8E6ECAA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20F39-FE6F-471F-9DE6-FF80F3BA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E7E62-68F8-4149-BEF9-C6ACE5AB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0FE39-ED50-4D3E-9F21-A345CF6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0F6-8F5F-4793-A025-FD9D2EF3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49DF3-5531-42DC-9749-C073726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5B4AE-D5A6-4045-80CE-97AB78AA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AD531-426B-4BE7-A781-5BBA33C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1556D-8E69-4ED7-9DB1-428BBEB1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99735-24D4-4609-BBED-47E5002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17ACD-7957-41F8-B228-4DC6098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E54A0-2476-409D-81DE-3440D30B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17F9A-1E84-431E-AF25-9F1F8EC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1E713-570E-4249-8F81-CBD5253C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D042E-19CD-48DB-9071-AB0BC804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1DB-FCA4-49C5-90AC-D2A817E7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343A0-BC3A-4444-B372-CF484790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054B75-75FD-4E7C-B460-15351C62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616E4-55F9-440A-BF93-F9423C3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399F3-E65C-423C-844C-3AC9CCB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A6ABA-1F81-4C0C-9C53-96B9726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43499-888A-4E1D-9A8E-81609ABC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98840-08CA-4769-8D4B-B028219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D0604-4FDC-4902-8F3C-CCE14AE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C35CB2-2207-455E-AA8B-3FD804C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B5D43-0C3B-4CD2-AEEA-30CFC86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D26D-D6CC-49D1-9631-2811C9F3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2CB0C3-3670-4079-B142-E19AD9E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F86BD-4B25-4681-BC87-690017A4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7AC52-D1ED-4EE2-BF17-8D40B548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2EDB-5BEE-47D9-91E2-CB44B89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9568-08FA-4254-874C-5DBA8F1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2E0C-F404-490C-9486-C2A7A7F6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D8F2-12B3-4854-B828-6953AF0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EC9-A589-4ED1-BB1C-072EFC0B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2FDF-D5F9-4CC2-9047-754E141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6733-E4D9-40E4-97B9-80E296C7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62EA-7DF3-4F02-8F9E-1D426BF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2E1A-8928-41EF-BD6E-A51A6AD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E7B5-6561-422E-B2BF-26F0ECCD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0EA0-B941-491D-968D-E4494EE1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7CD5-28E1-48B6-9268-5F38FFAF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BC4C-B418-4E91-BB06-C29640CC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E918-58A7-4F57-A2EF-2EBDFE8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A03D-6B68-4F8C-9449-B520323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975-50C1-42CD-96F8-C90A530E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2D7C-5AB1-4D19-8F13-26EA7A92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0639-C3F5-45FB-AC0D-D4F4993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2E80-7D78-4431-8962-D714FBC3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ED44-0429-49D1-BC6E-140EEA4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765D-D8CE-4DF8-AEFB-A7DE9B2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2266-9E6B-4BAA-A48C-B99E38F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C268-3747-4C07-9806-3286A6E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632B-7EE7-4BAC-A8B8-919C9033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1463-B94D-4FC8-B97D-870307D0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91E3-EBC0-4799-AECC-52BC250D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2D4-9883-4805-9C73-6FB2044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51D7-A893-4763-98B5-853EFBD5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27F6-2F03-4A77-8D62-DF8A6FA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4AA1B-E196-43E7-8A93-C34557A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B0D0-CCD0-48D9-A00C-D411BA5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D295-97B3-4E04-BD3A-FEEFBFD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5358-1F65-4A9A-B03C-9FC4DAE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2F76-B662-4044-8683-9E53474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9FFB-0E3F-4781-AE4A-0DC736CF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70E0-D3E7-4608-8002-580F944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CAB2-D7D3-4C8D-BDCE-90889A26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4D8-6C96-4B1B-90C1-8ED58C1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9038-BFA8-4D97-A6FA-64F96A2F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AFFA-06CC-47FF-81F4-08417E33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025D-37FD-4F98-A785-20F1886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F232-2F38-47C4-9336-EB8E8998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D44E-4915-4FA9-BA1B-1C441AC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2B602-B646-465E-862C-C8C36E4E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09B14-0D44-4FBC-AD7D-B6D016EB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0047-69A3-483C-B761-20A58E9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FEC8-055F-4AD1-B42D-FF7B296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937B-D0E0-40FB-A656-FACC114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181-2999-4AAC-8068-FF79C76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3C37-BD97-49B2-BED8-34A40A5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358D-EB4E-405F-AD26-C3220086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4B00-ACD7-435D-BF33-E2FC9CE4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0EC7E-DABD-4263-A526-2995DA36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FC292-9AA9-4280-8321-EC625630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0989-FB5B-4F4A-BD41-6F19A27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D319-BC30-4DA4-B9E6-CE865810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F46E-BE6A-4B4D-AE08-B639297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1455-78EA-4B6F-993F-954806C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0790A-C671-4457-B4B2-DAD8C6D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CEB-A37D-4A69-9EA1-B0A9E14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3DF6C-53FC-43C9-993E-763C83C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8F0A-171A-4081-A39E-4D8331D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5C8C-9E6A-41AD-8CFB-9CFCC46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427F-2C2D-4F42-B98C-AF28A430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D045-DC76-4CCE-9C18-875BF9D8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83BD-1DB3-4AE8-9C51-F3EADC65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FDFF-80C6-4ABF-B63E-CF45F44F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E36EB-5EDE-400D-90FF-13E49CF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22A1-3CED-4931-9426-738B56C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8F22-78E9-40B1-A941-E85E2862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6AE-81D6-408A-8D5E-FF7DD62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CBB3B-5610-4B64-AE13-0A103AD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55FE7-5E94-4A9B-95F9-BFC8E37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938C-B844-4EF3-A389-E72860B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611A-3A4A-4718-8098-C6D1C8F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BCE6-F68D-43E3-9F43-059781E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28CF-8CCC-4134-A8EB-18D10779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E6F36-5A25-4B83-BAB1-CB2387DF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13464-CEFF-4F50-8955-0B9A059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344FF-A473-4681-89CC-BE959CE1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D3A5-C32C-47E6-A1AB-00637632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8ED-CC26-409C-993B-390F5DB6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E4C3-3206-4255-AA7C-575729518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6961-B279-467C-8CFB-89FE8DC10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FB9-21B2-4580-9195-E912653F3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7A1-7565-4E47-9EBA-FD90B5E58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CEF9-D214-4616-8B13-B0F48A80E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716B-4933-43FE-87B6-265E39BA1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CB0-A3AD-468D-A9DB-07BAB4702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EAB-758D-4FBB-8463-12B2682B8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77A-28E7-4186-B2B4-87D4EFCB5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09E-EF4B-4424-B970-5AD502454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1A7A-98E0-44EF-B3F6-2F6C743212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2AF-26FC-43AF-9D5A-BCC06EF53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87F2-117E-4452-B9F5-C2952B575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EA6C-3810-42D6-AEA3-A75B6AB0DF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98B-0530-4220-BB4C-D12059375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29D-7374-46AD-ABD9-09DD1CB12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453-0D48-4010-98BA-0D3769EF8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030E-3FCA-4698-95E8-817E80B8CD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A09-C961-445A-8A8F-B50C94701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4289-C937-465B-9E93-A35A7B6D2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450-E72E-4368-99F7-C86897B55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23C9-BF03-4482-B8EB-FDF3A1439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4065-7E5B-4B21-A9BC-449CD0B82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3953-3989-4F0D-981B-AA57B1CD1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6115-BD8B-4DF9-8D1D-F01776D1C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B86-7A2B-4284-8BF3-0A9AFCB20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A46-984E-43BF-9A3F-95020AB84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C3B-EF43-4352-8847-B27C2DDB4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DC3-F953-459E-B9AD-0F88DF693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1AF-CD73-4365-B7B8-3DC150CF1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EF6-325F-4F3E-B872-3F06FA447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CD3-206C-407E-9E11-9CC884EC7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A4B5-E832-4557-8432-161C1A452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F147-3A54-4BDF-A9CF-31D6B8CFCE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8014-F570-4CFA-8A62-93964AE55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D858-4377-4B22-B7A8-982067633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038-933A-46CB-8184-051490D5C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F9E5-B07D-4817-BFEC-C652A3401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7C2-0D79-4D5C-B8B6-C722020C7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14440" y="3076560"/>
            <a:ext cx="4515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47840" y="1090440"/>
            <a:ext cx="8248320" cy="467712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928800" y="1071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928800" y="3357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00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1820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90680" y="1428840"/>
            <a:ext cx="8162640" cy="40003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1428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2357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00080" y="3214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3714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414324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00080" y="4643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771480" y="1652760"/>
            <a:ext cx="7601040" cy="355248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1214280" y="1643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1285920" y="2500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121428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1214280" y="4357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2772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571680" y="3500280"/>
            <a:ext cx="8153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23720" y="781200"/>
            <a:ext cx="82965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258400" cy="58485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785880" y="7858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85716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38200" y="1638360"/>
            <a:ext cx="8067600" cy="358128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000080" y="1714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2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